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9EE-E9FB-4B7D-87BB-C29DBDD3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22A-C463-4A1F-9A63-89BAC83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DEE-6344-496C-B31E-D5C7A6EF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9B8-F514-426B-BD34-1CE13FE1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9CE-D639-44EA-A314-75952C4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5D9-ECAF-45DA-8194-12296E3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DD3-EB8D-400D-A4CC-A559E61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3AE-DC3E-4504-9CFB-BE80E09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3D0-3205-4A93-8F73-BF402770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735-530E-49ED-8024-42FF10B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BDE-7508-49D6-82FB-74630E5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A56-D089-4798-AFB2-EBE930A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89F4-9714-4838-9DCE-E69822F29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OFFI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CURRICULUM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853452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200" y="455760"/>
            <a:ext cx="5632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162920"/>
            <a:ext cx="5790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1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09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33920" y="152280"/>
            <a:ext cx="2608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5400000">
            <a:off x="2245320" y="1531080"/>
            <a:ext cx="185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C-OPS-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263160" y="4881600"/>
            <a:ext cx="594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ficer Training Curriculum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(Modules 1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18:40:38Z</dcterms:created>
  <dc:creator>Debra Martin</dc:creator>
  <dc:description/>
  <dc:language>en-US</dc:language>
  <cp:lastModifiedBy>jboggs</cp:lastModifiedBy>
  <cp:lastPrinted>2003-01-16T17:17:48Z</cp:lastPrinted>
  <dcterms:modified xsi:type="dcterms:W3CDTF">2006-02-08T14:27:31Z</dcterms:modified>
  <cp:revision>31</cp:revision>
  <dc:subject/>
  <dc:title>US&amp;R WMD</dc:title>
</cp:coreProperties>
</file>